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BC3E5-9F70-4909-9DFC-E341DED41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470D-D6F1-45D3-9879-47E9EE472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E0466-7905-4C85-976F-1A60B4BA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AB74E-949B-4905-9C61-501F86CCE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0CDF-67B1-41A7-AC2C-31076200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DB812-38B3-4655-8F58-660CF9C3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1D73-8DC9-4A34-B3DA-AA086BFB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DC653-A6FC-43EF-BCD5-B9DF9C26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7F1E0-1FE1-4281-80A6-0A629A900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C372-2F68-45A7-844B-25C411DA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0C8D-1B67-48EF-9349-0F5C5CB2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873D-2547-459C-A7D4-24D5934BD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9EFA-114D-468B-995D-6527764F0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4379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rcRect l="19700" t="50010" r="15700" b="40000"/>
          <a:stretch/>
        </p:blipFill>
        <p:spPr>
          <a:xfrm>
            <a:off x="5738760" y="3400560"/>
            <a:ext cx="1474920" cy="2286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18:14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